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A4ED-8B49-40DB-B52B-C6461595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923D-8238-434F-AC58-5E8542E0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547A-5D30-4071-93E4-F8DF26B0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A089-4D3A-4C55-873F-78162E95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B17-3503-4142-9F02-C03D79E0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47E-6723-4B4F-BAE2-CFF474F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5234-5E88-483B-AEA6-0349DF21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978-9ED0-421D-9F71-AC443AB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971E-66D5-4386-91CC-11B79421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E83-9B24-4283-A027-0598288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7B7D-C5DE-4D72-874F-F913269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2679-01CF-4EF3-9D65-0B7C8F7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2F3C-E201-4A5F-9BDD-561B38A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C37B-A0B6-49A9-A290-74E7169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465-8A1A-49EE-BB32-D1A938D8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3929-9B63-4279-BF76-538DCF60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2DA2-6865-4775-ADD5-91FC5F57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94C7-928C-4209-BAC5-E2771F11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C49C-13B2-468E-8029-3335B112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F58B-DB39-4B1B-B35E-A9472D30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0CAE-DFC3-4275-B774-D77B032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8F9D-391D-490C-A476-C5FFA93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102A-5925-49BF-BBCC-AA6CA5E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F1C3-BA9D-48E9-80B0-BD4E099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F31-2CC5-4FEC-8B46-9EF8B828E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B02-3271-453E-9413-C82DF49C3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formatique quantiqu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es et avant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6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alyse par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ll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u paradoxe E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instein-Podosky-Rose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2-83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découverte des possibilités de cryptograph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nne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eynma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étudie la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imulation universel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aide d’ordinateur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5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pose les premières « por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giques quantiques » qui permett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velopper un modèle d’ordinateur univer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28FC-03E3-4212-A868-125821B46B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transformée de Fourier quantiqu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ppersmith et 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 celle-ci dans un algorithm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permettant de déterminer la période d’un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fo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 algorithme permettrait de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asser RSA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e application pratique important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s aux pertes de cohérence par la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rrection  d’erreurs 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et Kitaev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8-?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pratique d’un ordinateur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EF1E-71EE-4360-B55A-91D84FF0C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FF96-3CEB-407E-9632-D0CFC92A8F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bi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st un système à deux états quantiques c-à-d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ecteur    à un espace complexe de Hilbert bidimens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rdinateur quantique univer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ensemble de    qubits dans lequel les opé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ivantes peuvent être réalisées expérimenta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préparé dans un état 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mesuré dans l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ensemble de portes logiques universelles peut être appliqué à n’importe quel sous-ensemble de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qubits ne peuvent évoluer autrement que via les        transformation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156960" cy="18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279600"/>
            <a:ext cx="216000" cy="14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604360" y="402912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667640" y="4484520"/>
            <a:ext cx="936720" cy="2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4339-4256-4DE4-AFC0-A3D505331F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incip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 système physique réalisable f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simulé de façon arbitra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che par un ordinateur univer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utilisant des ressources finies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A2FE-70C7-4993-A9D1-0F5F60168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utilisation répétée d’une PU sur différentes combinaisons de qubits peut générer l’action de toutes les autres 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lassiquement, seule une porte non linéaire à 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bits peut être réversible et univers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02000" y="4797360"/>
            <a:ext cx="26100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8BC6-2E3C-403C-A815-E6D93AED0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quantiqu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Porte de Deutsch (basée sur l’idée de Toff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on suppose    incommensurable 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peut choisir la           puissance de R pou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orte univers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3280" y="242892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992320" y="4229280"/>
            <a:ext cx="787680" cy="293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08720" y="4300560"/>
            <a:ext cx="1587600" cy="291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627280" y="3868560"/>
            <a:ext cx="127080" cy="21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84720" y="3935520"/>
            <a:ext cx="216000" cy="149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780000" y="2933640"/>
            <a:ext cx="2449440" cy="3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0941-AA2B-4294-8894-88ACFFD97B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2712960"/>
            <a:ext cx="2276640" cy="1771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1880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) Construction d’une porte quantique de Deutsch à par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 portes à 2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e comporte comme une porte de Deutsch 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dans le cas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106800"/>
            <a:ext cx="5791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opérateur unitaire conditionnel et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NOT conditionnel (CNO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13120" y="3228840"/>
            <a:ext cx="216000" cy="18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4622760"/>
            <a:ext cx="230508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67640" y="4118040"/>
            <a:ext cx="1215720" cy="3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470A-0076-47B4-9A85-4EC27AD9B4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) Construction d’une porte     contôlée à partir de portes à 1 qubit et de portes 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combinaison de portes CNOT à 2 qubits avec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s opérateur unitaire est donc adéquate pou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universelle d’algorithmes quant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29000" y="2111400"/>
            <a:ext cx="271440" cy="23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00000" y="3052800"/>
            <a:ext cx="237168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19640" y="3102120"/>
            <a:ext cx="551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          et      sont des opérateurs unitaire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2560" y="3218040"/>
            <a:ext cx="57636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03640" y="31748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457880" y="3751200"/>
            <a:ext cx="320652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E636-9165-4A05-B95E-EEFE6FEDC8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7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hénomène d’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plupart des systèmes composites sont non-sé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46720" y="3444840"/>
            <a:ext cx="3778200" cy="1712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66960" y="4057560"/>
            <a:ext cx="323820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6C8F-7E89-47EA-93C2-59C3BFD75C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BA2B-010C-4486-9BFA-DF5CDC88A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724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énomène d’intrica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t un système    constitué de deux états séparés   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t les états appartiennent à des espaces de Hilb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parés (b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mplet de mesures sur    et  séparément (ex. observables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njoint de mesures sur    et    (ex. observables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803680" y="2151000"/>
            <a:ext cx="179280" cy="193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97880" y="3436920"/>
            <a:ext cx="250560" cy="250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16720" y="21067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064360" y="2139840"/>
            <a:ext cx="220680" cy="193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339040" y="3465360"/>
            <a:ext cx="225360" cy="19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682720" y="2967120"/>
            <a:ext cx="1036800" cy="3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1684440" y="5440320"/>
            <a:ext cx="2923920" cy="293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652760" y="4245120"/>
            <a:ext cx="3000240" cy="30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5281560" y="3743280"/>
            <a:ext cx="881280" cy="31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589200" y="4948200"/>
            <a:ext cx="164016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7686720" y="4665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8326440" y="4697280"/>
            <a:ext cx="210960" cy="184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1700280" y="5753160"/>
            <a:ext cx="31399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5B1A-CE4C-485E-9D50-82BE0C97D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 de Hadam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cas particulier de la matrice de rotation génér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 unitaire évidem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   qubits, 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te porte est utilisée pour la superposition des ét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it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71880" y="2511360"/>
            <a:ext cx="2825640" cy="84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57480" y="3946680"/>
            <a:ext cx="234720" cy="163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754360" y="4403880"/>
            <a:ext cx="4040280" cy="66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D2D8-E636-42DD-81F0-C5BA045D0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teraction avec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ffets non unitai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pola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Émission spont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pérateurs d’évolution non uni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ction de la mesure non orthog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4977-54AF-4CB2-A56B-F78899C1A0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3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avec l’environnemen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5640" y="2852640"/>
          <a:ext cx="7696080" cy="2432160"/>
        </p:xfrm>
        <a:graphic>
          <a:graphicData uri="http://schemas.openxmlformats.org/drawingml/2006/table">
            <a:tbl>
              <a:tblPr/>
              <a:tblGrid>
                <a:gridCol w="2815920"/>
                <a:gridCol w="1125720"/>
                <a:gridCol w="1878120"/>
                <a:gridCol w="18763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fr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éc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s par porte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As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In piég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té op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d’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point quan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nuclé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AA3C-987E-4FC4-913B-202D3D9716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5027-23A8-4FC2-9C18-C1FE77D3E0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iège à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ED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int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ordinateur de 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nctions Joseph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pological quantu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955960" y="2422440"/>
            <a:ext cx="38415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094B-9595-4191-94D7-E435FC039B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élange de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C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9F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amiltonien d’interaction spin-spin dû au nuage d’électr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195640" y="2627280"/>
            <a:ext cx="2881080" cy="1457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259680" y="981000"/>
            <a:ext cx="19126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944720" y="5013360"/>
            <a:ext cx="5796000" cy="38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916360" y="545796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11280" y="6021360"/>
            <a:ext cx="3635640" cy="2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208D-526C-4564-852E-1E9D4F7545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r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 combinant avec l’opér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  et en appliquant une porte de Hadamard 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à 2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obtient 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505240"/>
            <a:ext cx="7921440" cy="1139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63800"/>
            <a:ext cx="145260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084720" y="4359240"/>
            <a:ext cx="287640" cy="22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92360" y="4819680"/>
            <a:ext cx="2062440" cy="264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5076720" y="3936960"/>
            <a:ext cx="282420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C2D4-0357-4444-9781-D378F74DC3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per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tempor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application de l’opérate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art et d’autre, on renverse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 spin u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deux spins coup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20720" y="2509920"/>
            <a:ext cx="6264360" cy="77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289080" cy="165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356000" y="4437000"/>
            <a:ext cx="268920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843280" y="5551560"/>
            <a:ext cx="5256000" cy="4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E345-95A8-4F76-B2D2-0233455D62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topper l’évolution temporell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ation de 2 matrices de Hadamard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et -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le blocage comp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77080" y="213372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146640" y="2119320"/>
            <a:ext cx="297000" cy="23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5867280" y="3068640"/>
          <a:ext cx="2371680" cy="2367000"/>
        </p:xfrm>
        <a:graphic>
          <a:graphicData uri="http://schemas.openxmlformats.org/drawingml/2006/table">
            <a:tbl>
              <a:tblPr/>
              <a:tblGrid>
                <a:gridCol w="473040"/>
                <a:gridCol w="474840"/>
                <a:gridCol w="476280"/>
                <a:gridCol w="474480"/>
                <a:gridCol w="473040"/>
              </a:tblGrid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356000" y="4508640"/>
            <a:ext cx="11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365436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323A-720A-4AE2-A3A2-211DD134A4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Loi de Mo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osants de plus en plus pet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on atteint la limite des effets quantique (cf réduction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taille de l’oxyde MOS et effet tunnel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 possib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 nano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= astuces pour conserver les mécanismes class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(conduction, diffusio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SINON changer complètement mécanismes et utiliser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ropriétés quant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QUE QUANTIQUE (Q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52D1-E680-4505-A694-4527FCD6F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7C1B-1FC4-496D-9FDC-E59FAA5660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Algorith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méliore mais ne change pas la cla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Grover (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change la classe du problème de la factorisa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imul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 »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r le parallélisme pour simuler les effets quantiques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Lloy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752480" cy="3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C844-9E59-49C5-B6D2-4AE57ECB1C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ryp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ue sur l’intrication de qubits et sur la natur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tructive de la me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rrection d’err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des correcteurs (cf décoh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2563-C357-4FCD-999D-599FCDC797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D392-0667-43C0-8CD4-2642F5AB53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cun intérêt concret mais réalisé expérimentalement avec un qu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(0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 vers 0 ou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èm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déterminer quelle proposition est vraie (ou une quelconque si les deux sont vra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ition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équilib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3784-18E5-47D3-B2A4-5D86F8C1E5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6544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classiqu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 moins N+1 évaluation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ux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n+1 qubits (0 à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1 qubit (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ement préparés dans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003640" y="537372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5637-2538-4612-A637-01C1CBB1F2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au premier registre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erposition des ét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 de f dans le deuxième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ation unitaire du deuxième regi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132000" y="5300640"/>
            <a:ext cx="2959200" cy="59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259000" y="2349360"/>
            <a:ext cx="297000" cy="230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397240" y="2781360"/>
            <a:ext cx="4190760" cy="690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304920" cy="2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B2B6-DAE0-49A6-8D0B-8971AD4870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’une phase condi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 calcul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équivalent au calcul de l’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3017880"/>
            <a:ext cx="7417080" cy="771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84360" y="5410080"/>
            <a:ext cx="784836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8FE3-C33A-4E17-91A6-20048E7111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Étap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de Hadamard in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esure individuelle de tous les qubits du premier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abilité que tous les qubits soient à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55640" y="5738760"/>
            <a:ext cx="7488360" cy="507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40160" y="3065400"/>
            <a:ext cx="261792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F4AA-575E-4FD3-BD25-84E124284A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stant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équilibré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qubits mesurés sont 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équilibré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B) vra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 moins de qubits est à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constant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A) vra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 du problème avec une seule 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élération exponentielle grâce au parallélisme quantique dans l’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6865-97E6-49B3-861C-EE0F7675AA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solidFill>
            <a:srgbClr val="779f9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068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3284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4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3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85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5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580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9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34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07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71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285264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997360"/>
            <a:ext cx="503280" cy="576000"/>
          </a:xfrm>
          <a:prstGeom prst="ellipse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chin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357720"/>
            <a:ext cx="1800360" cy="2879640"/>
          </a:xfrm>
          <a:prstGeom prst="rect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357720"/>
            <a:ext cx="360360" cy="2735280"/>
          </a:xfrm>
          <a:prstGeom prst="rect">
            <a:avLst/>
          </a:prstGeom>
          <a:solidFill>
            <a:srgbClr val="779f92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980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980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980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407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16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1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64000" y="400500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944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52BC-5ED8-427A-BEF0-13C77C6E4B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8A47-1911-47E3-9914-88703C0203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 quantique (Q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401436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est le produit de deux n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formule est utilisée dans de nombreuses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informatique quan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984240" y="417024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47640" y="2479680"/>
            <a:ext cx="6409080" cy="1236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9640" y="17002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unitaire sur     qubits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356000" y="1866960"/>
            <a:ext cx="287280" cy="19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31F5-4CE6-4CD8-958E-4AB65E8710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A12F-6F4B-479B-86D8-7A9E600031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 (19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dans une liste non structurée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éléments        un élément particu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es éléments au hasard, un par 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93080" y="220680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916360" y="25750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492960" y="2560680"/>
            <a:ext cx="1116000" cy="409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90920" y="4559400"/>
            <a:ext cx="129384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8879-A403-4DA9-B304-87FB8EC749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lace les différentes positions de la liste dans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quantique, qu’on place dans une superposition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les états      représentent la position de l’élément dan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979640" y="4114800"/>
            <a:ext cx="5056200" cy="546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157480" y="5033880"/>
            <a:ext cx="398520" cy="2764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564000" y="5562720"/>
            <a:ext cx="230328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B641-2F6A-424B-868C-4BE627915B7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 l’opérateur unitaire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la suite de transform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le signe de tous les composants sa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84320" cy="198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165400" y="3357720"/>
            <a:ext cx="4638600" cy="336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8028000" y="547056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0BD7-78F2-4B6F-AFB4-B1C79B4776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pplique        ,                         fois,               et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que est donc pres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92560" y="2865600"/>
            <a:ext cx="2935080" cy="34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348000" y="3335400"/>
            <a:ext cx="2808360" cy="341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627280" y="4040280"/>
            <a:ext cx="432000" cy="3031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276720" y="3995640"/>
            <a:ext cx="2016000" cy="347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940360" y="4032360"/>
            <a:ext cx="1079640" cy="311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4427640" y="4487760"/>
            <a:ext cx="233280" cy="2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1846-07CE-4531-A14A-0DCAE2E4C0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é d’erreur dans la mesure de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1244520" cy="409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807160" y="2781360"/>
            <a:ext cx="272880" cy="287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1224000" cy="3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BDB5-EF05-450B-BFE4-A5DD3F1074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E650-763D-4686-941F-4787302C0F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 (19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la péri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d’une fonction enti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iodi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e méthode analy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valuer          pour         valeurs de    et découvrir qu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onction se rép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138560" y="2238480"/>
            <a:ext cx="217440" cy="195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771640" y="5445000"/>
            <a:ext cx="2003400" cy="468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354560" y="2637000"/>
            <a:ext cx="2305080" cy="390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1979640" y="4365720"/>
            <a:ext cx="719280" cy="35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3490920" y="4413240"/>
            <a:ext cx="576360" cy="311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610240" y="4448160"/>
            <a:ext cx="208080" cy="1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B144-3C0C-4126-A241-9043ED593EA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de règ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fini d’états inter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an d’entré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omposé de symboles bi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ment suivant du ruban dans la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également défin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est la sor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e machine de Turing quand l’entrée est le ruban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hine de Turing univers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rdinateur universel capable de simuler le comportement de n’importe quel 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2089080" cy="280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517840"/>
            <a:ext cx="269640" cy="23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532720" y="2997360"/>
            <a:ext cx="198360" cy="19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51280" y="2997360"/>
            <a:ext cx="216000" cy="176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8244000" y="3368520"/>
            <a:ext cx="203040" cy="276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140360" y="3789360"/>
            <a:ext cx="577800" cy="31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5292720" y="3789360"/>
            <a:ext cx="72072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7669080" y="4332240"/>
            <a:ext cx="216000" cy="176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3132000" y="6021360"/>
            <a:ext cx="2951280" cy="366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5435640" y="4724280"/>
            <a:ext cx="325440" cy="2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863A-E806-4AE7-874C-5C78C9826B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35280" y="436572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195640" y="3645000"/>
            <a:ext cx="468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95640" y="450864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16360" y="335772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96000" y="3429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7640" y="42908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364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080" y="3429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72280" y="42926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5076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832040" y="350028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022520" y="3429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67960" y="42861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136440" cy="1112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2195640" y="4581360"/>
            <a:ext cx="136440" cy="1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87AE-2245-40FB-9565-4C9CC6F4524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lus           (pour l’espace de travail) qubits néces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s      qubits sont divisés en 2 registres    et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  sont initialement préparés dans l’état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0360" cy="209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160360" cy="352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1616040" y="2827440"/>
            <a:ext cx="723960" cy="314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1174680" y="4003560"/>
            <a:ext cx="37296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544680" y="4538520"/>
            <a:ext cx="13968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6083280" y="4103640"/>
            <a:ext cx="144360" cy="117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6737400" y="4076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6372360" y="4457880"/>
            <a:ext cx="291960" cy="26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F15D-076D-4C83-9A80-29B226B85D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(équivalent dans ce cas à une transform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urier) à   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283860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340000" y="3330720"/>
            <a:ext cx="208080" cy="169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352680" y="4172040"/>
            <a:ext cx="286236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6995-CA41-43E8-A0A1-72315102439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  définie p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alors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27400" y="2855880"/>
            <a:ext cx="37296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21240" cy="479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220920" cy="104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6DD1-120C-4618-B05A-856A34444B5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serve    , qui donne une valeur unique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 total devient a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                               sont les valeurs de    p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quelles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212760" cy="271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516720" y="2781360"/>
            <a:ext cx="360360" cy="328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771640" y="3666960"/>
            <a:ext cx="3748320" cy="1130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927000" y="5049720"/>
            <a:ext cx="3390840" cy="244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020000" y="5051520"/>
            <a:ext cx="216000" cy="177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979640" y="5465880"/>
            <a:ext cx="1152360" cy="26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5D1A-E0F9-4F26-BE5F-3B4E4A533CD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alors la transformée de Fourier et on obt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1655640" cy="361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276720" y="3973680"/>
            <a:ext cx="2447640" cy="968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295280" y="5354640"/>
            <a:ext cx="673272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260C-5674-462B-BB42-76BD76B1AFE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un multiple de   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n’ont pas de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uffit alors de transformer          en fraction irré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ont un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gorithme échoue alors et il faut le recomm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    répétitions nécess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792000" cy="385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1871640" cy="4014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37000" y="5300640"/>
            <a:ext cx="1287360" cy="33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73160" cy="23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1476360" y="3262320"/>
            <a:ext cx="174600" cy="2379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2124000" y="4221000"/>
            <a:ext cx="144360" cy="130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7"/>
          <a:stretch/>
        </p:blipFill>
        <p:spPr>
          <a:xfrm>
            <a:off x="2124000" y="3357720"/>
            <a:ext cx="144360" cy="129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8"/>
          <a:stretch/>
        </p:blipFill>
        <p:spPr>
          <a:xfrm>
            <a:off x="5219640" y="3670200"/>
            <a:ext cx="719280" cy="3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83AB-A107-411E-AF9F-223111739A9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) Cryptage 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cryptage par la clef publi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dage par clef priv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    peut-être facilement déterminée à partir de     et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cteurs de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écod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algo de Sie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303640" cy="271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635280" y="4508640"/>
            <a:ext cx="2232000" cy="322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14480" cy="1872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114120" cy="185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4859280" y="2781360"/>
            <a:ext cx="792360" cy="360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36000" y="5229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2124000" y="5661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4140360" y="5877000"/>
            <a:ext cx="4282920" cy="37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B39E-B0E7-4FEA-9071-AB63676B9B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2) Utilisation de l’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i    est pair,               a un facteur commun avec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utilise alors l’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algorithme d’Euclid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our le trou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ugmentation de vit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352680" y="2797200"/>
            <a:ext cx="4098960" cy="3189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900000" y="3340080"/>
            <a:ext cx="142920" cy="128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68360" y="3173400"/>
            <a:ext cx="1165320" cy="326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7236000" y="33228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012000" y="4437000"/>
            <a:ext cx="1152360" cy="3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90C3-D6EE-4DAE-B367-8EC557781F6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E666-4BC0-4BA3-B493-94B094A4C6D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hès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e fonction qui pourrait naturellement ê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nsidérée comme calculable (déci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calculée pa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Machine de Turing universell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C75E-080D-4A2F-976A-5ABF4096E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antum Computer Emulator (Q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cro-instructions (MI) dépendent de l’implémentation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gramme écrit à partir de ces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évolution temporelle donnée par résolution de l’équation de Schröd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830A-A13E-4E74-BDF5-976F1322FA5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très ambi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pplicable dans de nombreux problèmes (décryptage, calcul, simulation quantiqu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se à profit de propriétés purement quant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algorithmes ont été inventés après 1990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premières réalisation pratiques réalisées après 1995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Winenlan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3830-872F-4873-BAB6-D2D31E78298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énormes difficulté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iter les interactions avec l’environnement (phénomènes de décohérence, émission spontanée, dépolar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ériel coûteux et encombrant (cryogénie, aimant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éo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algorithmes rares malgré le nombre croissant de cherch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é des codes corre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913C-F041-4448-94E4-18EFFD515B8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ux types de problèmes (Gö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f « 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blème de l’arrê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ortant car permettrait de résoudre cert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mathématiques (conjectu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oldbach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de 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4D06-EB4C-4CD1-B1CB-48AB7C9ED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mbre d’étap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écessaires à une machine de 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ésoudre le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ô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la taille de l’entrée (généralement le nombre de bits nécessaire pour encoder le problè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«  Hard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pend de faç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a taille de l’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ème dont la solution peut être vérifiée en un temps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C497-F058-4B53-9FEC-6B3B72FCEB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9F19-2EF4-4340-90B5-B010821C3C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1:15:10Z</dcterms:created>
  <dc:creator>Maxime</dc:creator>
  <dc:description/>
  <dc:language>en-US</dc:language>
  <cp:lastModifiedBy>Maxime</cp:lastModifiedBy>
  <dcterms:modified xsi:type="dcterms:W3CDTF">2004-05-26T21:14:22Z</dcterms:modified>
  <cp:revision>141</cp:revision>
  <dc:subject/>
  <dc:title>Informatique quantique</dc:title>
</cp:coreProperties>
</file>